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move the slide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9B073-349A-44E5-9845-7294BB392D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C5483-CB8E-43CB-B618-1F8DE723B4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4CD-BF0A-406B-8F52-669A4AE2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66F-AEAA-4C76-AD38-9698827F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4EFAA-CB5F-4E30-854B-217366D8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54D6C-010A-4735-B089-36F78078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E14E7-2F3D-4A8A-94FF-1396BFA5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48232-B187-499F-858E-34BC461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1530D-AB23-4DB9-989F-BE390C2D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ACB03-731F-4D19-8BE3-E573A09E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2F6B8-3FDF-47F5-A654-DF190182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05A33-CD91-4DCF-9108-47ECD2CF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F365D-6460-440B-809E-C5DB2920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411B0-C223-41EA-BA40-43CCAEA0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CFA-9700-4589-84EA-B93490D5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E7FA4-2B09-4BBE-809A-CDED0BA1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9032A-3540-4AA4-887C-6D713C3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F1458-D789-47AA-8ABF-8B55D1FF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2E2EC-2604-4110-BC8F-C6DB8D81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57A9D-6926-4610-BE39-EA1DE1F6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D301C-46A2-40DC-A454-007DB7C0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25FF9-CC66-441D-B868-BF682964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BB6EE-A87F-4942-BBA9-24329AC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435AC-C5C4-4802-BBCE-F098E47C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E6667-13FA-419E-9D12-48FA1E9F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08C-54EC-435E-92AD-92DB9320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1458C-2349-4D75-99BC-5E72057A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2BC77-0202-46F0-9BAF-B0E78102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E43E6-506A-48AF-B6D2-46868755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959F8-DC74-46A6-A493-1CBF5699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DB4D9-7EC0-4BBA-B9A2-60BE2C79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6029F-E593-4E7D-8BC4-42A8BA78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21D7C-A692-44A6-9E3C-DF0FC8B8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94D57-34D5-49F1-8625-5C12FE8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C6247-FE92-423B-808D-2FE6D515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DC62D-4EE4-4713-B011-2337D31E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B853-63F9-42C7-9B85-C7F61308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34A29-23D5-4C34-B0CB-6223E4F7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81AC4-68AD-4126-83AE-1C591B4D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5DD18-196D-4B21-87F4-5A5AA965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20E0-B8A7-4D85-A3F9-58457D83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84E5-696D-455A-8DE3-2F8322F5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F8AD-3C4B-4AED-A906-DD2CB70A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0735-616E-4EF9-9269-4144BDC9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2D49-3F63-416B-9CA1-831F4879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1C16-7095-4770-AD39-D3C73B9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24C-10B1-4686-9321-605F24BD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B078-7CD5-48E0-AD6D-E73941AB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8880-ABB2-433B-89C8-5917DFBC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DC77-75E0-4C8C-8746-1364F66F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3673-83F6-4407-8958-D7026CDF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C2FB-9A76-4283-976C-C1A730DE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EF88-CDF3-465F-A360-CC5E9D48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57AC-36F4-4A41-9763-89CB9D3A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6243-582C-4E73-B2F9-FEADD319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71C0-2A83-42BB-94D7-E30D401B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C56E2-7348-49E9-8588-6AFEA1BB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0E9-7AB3-43F3-BFA7-B27E95BB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8227-7680-4FB6-A09B-0EA189D7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D2091-6F16-491C-B45A-EDE2F27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891D-C893-4D33-9BD0-1B33CE3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F204-3020-4417-B378-94DB3636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77CE9-CCF4-4AEE-AD4D-BDB4A9A3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1C9E-B68E-4AF8-A701-1D4CF6BF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BD04-FCBF-4F32-9F0E-23ECD993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0D23B-1519-45EB-8452-CA307966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2828-227D-4B26-B52F-88A7A915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787CD-902A-44D3-B179-F328C193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B5C-8B9D-41C1-BAD1-9EB486F4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169B-A6FE-469E-9303-B9A680E4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45CF3-4CA5-44C3-A60B-E6416C07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0BBD-9B42-4CCF-B237-FF094D2B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1B97-4484-4F28-ABA0-73F50DAE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E3D64-5314-4CCD-A4A5-1ABD8C64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D347E-6528-4101-97D9-8E3434E2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94B30-7CB5-4A11-950B-35CE12CC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AA59-D345-4E9E-A85C-36D33484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2C8D-26E0-4B8A-988C-220D136E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05E6-8C3B-48C5-931B-2E002932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CB2-BA5F-4AA5-99E7-F3A88584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24C6E-1B83-4C22-85DD-AB9F0BC6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6A0D-982C-45FF-9A6E-74BD4E24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5A37-8C9E-4BCA-BFDA-A6E63D29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BEAF2-C623-4387-B08D-9F085C48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B4AC6-B42E-455A-899C-7C8096C8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57A3A-EFA1-40F4-8AC7-92E217AD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5FE98-1341-43D3-85D0-133190CB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7E4E-2FEF-47DB-A182-825B3BB3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94E85-23CC-41AF-B2CF-DE66A1F2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AE3D2-C545-49B3-AC87-CB59CB37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987-7069-4051-B5E0-D93D3A7B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14E9-DF4A-40C2-8204-BA5622A0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27A29-9FB1-4D91-8D2D-79D2A571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63617-1EA8-4D36-9BB4-0DB14501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7D3E-67AC-424A-98BE-2C7C5153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771C-CDF4-4A92-8DF1-36570D6F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9CAD1-8DE1-4BFA-92AE-5975F3B6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18CC1-0820-43F7-9F24-5F5A26C3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AD11C-8489-4273-8FE1-A1D2C377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4B850-4CAF-4BBE-88BC-E3894457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4D380-62A7-4D7C-84DD-3CD5C201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542-1B47-4DC8-8B0A-33E01256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355C6-7FC3-4570-AFB5-88D8B865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41CB2-E2B2-4C9B-9D0E-5E8D7CC9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D2B6B-086D-4003-A779-1CF88412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4CFF2-26E6-4834-96FB-F20CB4CA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E32EA-402F-40D6-A195-8AAF50D5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66B8D-5050-4E35-A101-5E95875B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882F2-85F5-496A-94D9-7DC2BF9E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1EFD3-F55D-492A-96A3-AB1EA076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E93A1-742D-45BF-AE99-3568A057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4A519-1562-46F3-949C-4A7554F1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368-64D7-4E3C-93C0-2EBE330A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B045-7B01-4EF6-A4A5-853D2919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66BCF-C99B-4555-A29A-52902A55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0DF47-5217-4049-9F40-B13D2B2D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AC1EE-122A-4E9A-8A59-A8AA152E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72A5D-ECD7-4EDE-BDB6-848EAAD8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8CAFE-AD0C-45C5-9123-5B0152DE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045FF-41BC-4182-AAA2-328657FC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8F07D-89A2-4296-8923-7CDDAAAE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00AA3-D19B-4060-830B-D196A5E0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1002D-8D07-42DC-8926-48222649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C72-ADEE-4323-B1C2-B0EC0C11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C0F78-C070-4887-9C3C-9504AE6D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0FDEF-653B-4BCF-BBB9-F175DA00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92F67-3DF9-40A1-872B-CC09E7DA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908FD-0556-4F8A-9672-236E149E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6820A-CC34-4821-93E0-D7C3E4CF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DB477-D1AA-4029-9CD6-005BE69B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DA6C1-EFEB-4B3D-911C-7D4C8DF2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180BB-F401-47BD-9ED4-55944BD8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D2F6C-458F-4C02-A2F3-ECE0979A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09BC6-BD2D-4AC5-BBB7-4BEAF7DD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FC211-4835-45CC-9CCC-51D1DE802099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CC408-6236-4E08-BE30-FD4BBA2ADF4F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6C3B1-FB6C-4FBB-8EF0-A8F02D9B0046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A2FDA-04DE-4589-8CA9-25396802670C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F1228-0582-47A9-8C04-AA21A332B66E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90AFF-AC5D-48C2-BEF8-851E70C0FEBF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D3964-1DC9-4272-AF9D-389C3CD159D7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FE265-0713-457B-BB55-B717A7991184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A9C57-4826-4332-AA36-6EB54F96501A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00147-87EA-442C-969A-EEB74D286E93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5105520"/>
            <a:ext cx="11293560" cy="17524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7AAC2-493F-4F56-AD75-47C68ABF61AB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1800" y="758520"/>
            <a:ext cx="8148600" cy="404172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Century Schoolbook"/>
              </a:rPr>
              <a:t>Действия по сигналу гражданской обороны: «Внимание всем!»</a:t>
            </a:r>
            <a:endParaRPr b="1" lang="en-US" sz="6500" spc="-1" strike="noStrike">
              <a:solidFill>
                <a:srgbClr val="d34817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Рисунок 3" descr=""/>
          <p:cNvPicPr/>
          <p:nvPr/>
        </p:nvPicPr>
        <p:blipFill>
          <a:blip r:embed="rId1"/>
          <a:stretch/>
        </p:blipFill>
        <p:spPr>
          <a:xfrm>
            <a:off x="428760" y="388800"/>
            <a:ext cx="108694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78408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Задачи урока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262160" y="1377720"/>
            <a:ext cx="92469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ими способами производится оповещение населения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зучить действия по сигналу: «Внимание всем!»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78408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Домашнее задание: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262160" y="1404720"/>
            <a:ext cx="93009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анализировать ситуационную задачу: «Произошел выброс аварийно- химически опасного вещества (хлора)». Ваши действия.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25600" y="321840"/>
            <a:ext cx="9693360" cy="139716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4817"/>
                </a:solidFill>
                <a:latin typeface="Century Schoolbook"/>
              </a:rPr>
              <a:t>Спасибо за внимание</a:t>
            </a: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!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pic>
        <p:nvPicPr>
          <p:cNvPr id="501" name="Рисунок 3" descr=""/>
          <p:cNvPicPr/>
          <p:nvPr/>
        </p:nvPicPr>
        <p:blipFill>
          <a:blip r:embed="rId1"/>
          <a:srcRect l="0" t="34627" r="49206" b="0"/>
          <a:stretch/>
        </p:blipFill>
        <p:spPr>
          <a:xfrm>
            <a:off x="1531800" y="2374920"/>
            <a:ext cx="4637160" cy="4483080"/>
          </a:xfrm>
          <a:prstGeom prst="rect">
            <a:avLst/>
          </a:prstGeom>
          <a:ln w="0">
            <a:noFill/>
          </a:ln>
        </p:spPr>
      </p:pic>
      <p:sp>
        <p:nvSpPr>
          <p:cNvPr id="502" name="Овал 4"/>
          <p:cNvSpPr/>
          <p:nvPr/>
        </p:nvSpPr>
        <p:spPr>
          <a:xfrm>
            <a:off x="3274920" y="3630600"/>
            <a:ext cx="204840" cy="136440"/>
          </a:xfrm>
          <a:prstGeom prst="ellipse">
            <a:avLst/>
          </a:prstGeom>
          <a:solidFill>
            <a:srgbClr val="000000"/>
          </a:solidFill>
          <a:ln w="1404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3" name="Рисунок 6" descr=""/>
          <p:cNvPicPr/>
          <p:nvPr/>
        </p:nvPicPr>
        <p:blipFill>
          <a:blip r:embed="rId2"/>
          <a:stretch/>
        </p:blipFill>
        <p:spPr>
          <a:xfrm>
            <a:off x="4021200" y="3484440"/>
            <a:ext cx="21888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1800" y="281160"/>
            <a:ext cx="9691560" cy="9014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Задачи урока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262160" y="1828440"/>
            <a:ext cx="9036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ими способами производится оповещение населения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зучить действия по сигналу: «Внимание всем!»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83160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Средства оповещения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pic>
        <p:nvPicPr>
          <p:cNvPr id="483" name="Объект 4" descr=""/>
          <p:cNvPicPr/>
          <p:nvPr/>
        </p:nvPicPr>
        <p:blipFill>
          <a:blip r:embed="rId1"/>
          <a:stretch/>
        </p:blipFill>
        <p:spPr>
          <a:xfrm>
            <a:off x="1262160" y="1463760"/>
            <a:ext cx="93582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1800" y="185400"/>
            <a:ext cx="9691560" cy="7016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Действия при звуке сирены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261800" y="1023840"/>
            <a:ext cx="99154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дается общий сигнал «Внимание всем!» – звук сирены или прерывистые гудки предприятий, – а затем следует информация о характере угрозы и конкретные рекомендации по защите и действиям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ключите полную громкость приемника радиовещания или включите телевизор на любой местный новостной канал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 каналам телевидения и по радио будет передаваться речевая информация о сложившейся обстановке и порядке действия населения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лностью прослушав и поняв речевую информацию, необходимо выполнить все рекомендации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первую очередь необходимо взять документы, деньги и по возможности запас еды и питьевой воды на сутки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забирайте детей из школы и детского сада. Это может задержать их отправку в безопасные места. О Ваших детях есть кому позаботиться. Их защита предусмотрена в первую очередь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информируйте соседей по подъезду и месту жительства — возможно, они не слышали передаваемой информации. Пресекайте немедленно любые проявления паники и слухи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1800" y="293400"/>
            <a:ext cx="9691560" cy="5936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Ситуационная задача 1</a:t>
            </a: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261800" y="1023840"/>
            <a:ext cx="96915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 судоремонтном заводе произошла утечка радиации из ядерного отсека подводной лодки. Радиоактивное облако движется в сторону населенного пункта. В городе объявлен режим чрезвычайной ситуации и звучит сигнал «Внимание всем!» Сообщение о ЧС застало вас на улице.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пишите дальнейший алгоритм ваших действий;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зовите средства необходимые по сохранению и защите своего здоровья.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Если сигнал застал вас на улице:</a:t>
            </a:r>
            <a:br>
              <a:rPr sz="4000"/>
            </a:b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2160" y="845640"/>
            <a:ext cx="8594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 Прослушать экстренное сообщение, передаваемое уличными громкоговорителями и подвижными средствами оповещения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 Действовать в соответствии с переданным сообщением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Объект 3" descr=""/>
          <p:cNvPicPr/>
          <p:nvPr/>
        </p:nvPicPr>
        <p:blipFill>
          <a:blip r:embed="rId1"/>
          <a:stretch/>
        </p:blipFill>
        <p:spPr>
          <a:xfrm>
            <a:off x="1262160" y="69840"/>
            <a:ext cx="945828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1800" y="293400"/>
            <a:ext cx="9691560" cy="6620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Ситуационная задача 2</a:t>
            </a: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261800" y="1091880"/>
            <a:ext cx="96915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 находитесь в частном доме, рядом с красивой полноводной рекой. Ещё днём пошел сильный дождь, который к вечеру только усилился. Возникла угроза затопления местности. В 3ч 15мин Вы проснулись от звука сирены оповещения. Вода быстро прибывает и начинает затапливать дом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пишите дальнейший алгоритм Ваших действий в сложившейся ситуации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ьте, что вы собираете рюкзак для экстренной эвакуации. Что Вы с собой возьмете? Дайте краткое пояснение необходимости каждого предмета. 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1800" y="293400"/>
            <a:ext cx="9691560" cy="100332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Если наводнение застало вас внезапно:</a:t>
            </a: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261800" y="1446120"/>
            <a:ext cx="95742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Быстрее занять возвышенное место и быть готовым к эвакуации;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инять меры к подаче сигналов;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безопасном месте нужно находиться до спада воды, самоэвакуацию можно проводить только в случае реальной угрозы вашей жизни.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27T13:15:11Z</dcterms:created>
  <dc:creator>el4467930@gmail.com</dc:creator>
  <dc:description/>
  <dc:language>en-US</dc:language>
  <cp:lastModifiedBy>sch10-17</cp:lastModifiedBy>
  <dcterms:modified xsi:type="dcterms:W3CDTF">2025-09-24T09:29:42Z</dcterms:modified>
  <cp:revision>12</cp:revision>
  <dc:subject/>
  <dc:title>Действия по сигналу гражданской обороны: «Внимание всем!»</dc:title>
</cp:coreProperties>
</file>